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162-40C3-4A5D-A80D-259F1D56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937-6C13-418D-BBE3-8D477755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E0E-985B-4B98-AC8F-173273AC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76A-8EE6-43A3-8066-87F921D4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31C-C948-4512-99F1-BAD3A31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576-FDD0-444E-9251-28718F5B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D74-5F89-4A49-A657-B25BA68D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887-F594-450C-BEBC-DC00E86B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101-DF88-40CF-80C4-2614263F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5CE-C1DF-499D-9A7F-BC28FDF6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EA3-C75D-49DE-AF60-0AAE3AAA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8F5-36A4-4DB5-A198-BB9E0519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7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a7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E9C0-3F28-4A0F-B249-D6530404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97320" y="365040"/>
            <a:ext cx="235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880" y="5637240"/>
            <a:ext cx="7261200" cy="63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 Narrow"/>
              </a:rPr>
              <a:t>Exercise Behavior and Adher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4920" y="1376280"/>
            <a:ext cx="6170400" cy="4049640"/>
          </a:xfrm>
          <a:prstGeom prst="rect">
            <a:avLst/>
          </a:prstGeom>
          <a:ln w="38160">
            <a:solidFill>
              <a:srgbClr val="f9c308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86320" y="12142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74920" y="258912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74920" y="330048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011480"/>
            <a:ext cx="4354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5320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ercise professionals should highlight the benefits of exercise and provide a supportive environment to involve sedentary people in physical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20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People often cite time constraints for not exercising, but such constraints are more perceived than real and often reveal a person’s prior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31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75320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for Not Exerci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5960" y="739800"/>
            <a:ext cx="77716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dividual Barriers to Physical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9242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time, energy, or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5588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essiv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1939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llness or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8289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eling uncomf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64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ck of sk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099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ear of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ee table 18.1 on p. 403 of tex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723960"/>
            <a:ext cx="82296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Problem of 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1164" t="1334" r="1164" b="1334"/>
          <a:stretch/>
        </p:blipFill>
        <p:spPr>
          <a:xfrm>
            <a:off x="1919160" y="1852560"/>
            <a:ext cx="5292720" cy="460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50400" y="1214280"/>
            <a:ext cx="730836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Problem of 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5891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those who start exercising to overcome barriers to continuing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7028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exercisers develop contingency plans to overcome factors leading to relapses (not exercis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36920" y="762120"/>
            <a:ext cx="7701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2108160"/>
            <a:ext cx="4065480" cy="457200"/>
            <a:chOff x="0" y="2108160"/>
            <a:chExt cx="4065480" cy="457200"/>
          </a:xfrm>
        </p:grpSpPr>
        <p:sp>
          <p:nvSpPr>
            <p:cNvPr id="157" name=""/>
            <p:cNvSpPr/>
            <p:nvPr/>
          </p:nvSpPr>
          <p:spPr>
            <a:xfrm>
              <a:off x="2747880" y="210816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2108160"/>
              <a:ext cx="35337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14400" y="21034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Health Belie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30480"/>
            <a:ext cx="731376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The likelihood of exercising depends on the person’s perception of the severity of health risks and appraisal of the costs and benefits of taking a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2960" y="25495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ecker and Maiman, 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00240" y="2443320"/>
            <a:ext cx="6643440" cy="12427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2577960"/>
            <a:ext cx="65534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Overall “inconsistent” support for Health Belief Model predictions of exercise behavi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67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Health Belief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8600" y="37306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ecker and Maiman, 19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39960" y="281628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nti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9960" y="352728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bjective norms and attitude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27000" y="210816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Exercise behavior is made up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heory of Planned Behavi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39960" y="423864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ceptions of ability to perform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39680" y="51148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Ajzen and Madden, 19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00240" y="2443320"/>
            <a:ext cx="6643440" cy="12427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577960"/>
            <a:ext cx="65534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The theory of planned behavior is a useful theory for predicting exercise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87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heory of Planned Behavi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8600" y="373068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Ajzen and Madden, 198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0600" y="739800"/>
            <a:ext cx="33292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ssion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 Study Exercise Behavi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647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 Exercise Behavior and Adherence Ar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740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sons to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400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sons for Not Exerc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50608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Problem of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36920" y="762120"/>
            <a:ext cx="7701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2108160"/>
            <a:ext cx="4675320" cy="457200"/>
            <a:chOff x="0" y="2108160"/>
            <a:chExt cx="4675320" cy="457200"/>
          </a:xfrm>
        </p:grpSpPr>
        <p:sp>
          <p:nvSpPr>
            <p:cNvPr id="198" name=""/>
            <p:cNvSpPr/>
            <p:nvPr/>
          </p:nvSpPr>
          <p:spPr>
            <a:xfrm>
              <a:off x="3357720" y="210816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2108160"/>
              <a:ext cx="41432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914400" y="21034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ocial Cognitive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03048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xercise behavior is influenced by both personal and environmental factors, particularly self-effica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25495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andura, 1986,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00240" y="2443320"/>
            <a:ext cx="6643440" cy="16621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5779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ocial cognitive theory has produced some of the most consistent results in predicting exercise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208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Social Cognitive Theo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8600" y="4149720"/>
            <a:ext cx="2619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Bandura, 1986,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8800" y="2936880"/>
            <a:ext cx="71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contemplation stage (does not exerc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28800" y="354816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emplation stage (has fleeting thoughts of exerci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14480" y="1870200"/>
            <a:ext cx="7062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An individual progresses through five stages of 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28800" y="460044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ation stage (exercises, but not regularly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28800" y="293688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ion stage (has been exercising regularly, but for less than six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28800" y="3992400"/>
            <a:ext cx="7148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intenance stage (has been exercising regularly for more than six mon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14480" y="1870200"/>
            <a:ext cx="7062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An individual progresses through five stages of cha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524196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00240" y="2189160"/>
            <a:ext cx="6643440" cy="161136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3241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Different exercise behavior induction strategies are used during the different transtheoretical sta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49520" y="189540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53920" y="1896480"/>
            <a:ext cx="778320" cy="396000"/>
            <a:chOff x="853920" y="1896480"/>
            <a:chExt cx="778320" cy="396000"/>
          </a:xfrm>
        </p:grpSpPr>
        <p:sp>
          <p:nvSpPr>
            <p:cNvPr id="235" name=""/>
            <p:cNvSpPr/>
            <p:nvPr/>
          </p:nvSpPr>
          <p:spPr>
            <a:xfrm>
              <a:off x="85572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5392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2572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12392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98600" y="189648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396800" y="205704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50960" y="233280"/>
            <a:ext cx="7701840" cy="112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ories/Models of Exercise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Transtheoretical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8600" y="3832200"/>
            <a:ext cx="570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Prochaska, DiClemente, and Norcross, 199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00240" y="4780080"/>
            <a:ext cx="6643440" cy="161136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491508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tching the intervention to the stage of change is effective in producing high levels of regular exerc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49520" y="448632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53920" y="4487400"/>
            <a:ext cx="778320" cy="396000"/>
            <a:chOff x="853920" y="4487400"/>
            <a:chExt cx="778320" cy="396000"/>
          </a:xfrm>
        </p:grpSpPr>
        <p:sp>
          <p:nvSpPr>
            <p:cNvPr id="247" name=""/>
            <p:cNvSpPr/>
            <p:nvPr/>
          </p:nvSpPr>
          <p:spPr>
            <a:xfrm>
              <a:off x="85572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5392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2572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12392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98600" y="448740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396800" y="464796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90720" y="2073240"/>
            <a:ext cx="7162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ny factors, from demographics to physical and social environment, affect exercise particip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8640" y="231840"/>
            <a:ext cx="76788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actors Associated With Participatio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 Supervised Exercise Pro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42920" y="5838840"/>
            <a:ext cx="485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See table 18.03 on p. 409 of tex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6200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mographic variables (e.g., education, income, gender, socioeconomic status) have a strong association with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371760"/>
            <a:ext cx="73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arly involvement in sport and physical activity should be encouraged, because there is a positive relation between childhood exercise and adult physical activity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52005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iers to exercise are similar for white and nonwhite pop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14400" y="1962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efficacy and self-motivation consistently predict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940120"/>
            <a:ext cx="73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pousal support is critical to enhance adher-ence rates for people in exercise programs. Spouses should be involved in orientation sessions or in parallel exerci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76892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rcise intensities should be kept at moderate levels to enhance the probability of long-term adherence to exercise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914400" y="1962000"/>
            <a:ext cx="7313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exercising generally produces higher levels of adherence than exercising alone, but tailoring programs to fit individuals and the constraints they feel can help them adhere to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4222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st-exercise participation predicts exercis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14400" y="1962000"/>
            <a:ext cx="731376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rcise leaders influence the success of an exercise program. They should be knowledge-able, give lots of feedback and praise, help participants set flexible goals, and show concern for safety and psychological com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4222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convenient location is an important predictor of exercise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46360" y="219240"/>
            <a:ext cx="7585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terminants of Exercise Adhere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0600" y="739800"/>
            <a:ext cx="33292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ssion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ories/Models of Exercise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6478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nts of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3084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rategies for Enhancing Adherence to Exer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96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tings for Exercise Inter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6292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uidelines for Improving Exercise Adh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024280" y="243000"/>
            <a:ext cx="51094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trategies for Enhanc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dherence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246708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havior modification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303696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inforcemen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90512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Six categories of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359892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gnitive/behavioral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41688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ision-making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475920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-support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5329080"/>
            <a:ext cx="6400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rinsic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59120" y="744480"/>
            <a:ext cx="70524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ehavior Modification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0" y="2104920"/>
            <a:ext cx="2538360" cy="457200"/>
            <a:chOff x="0" y="2104920"/>
            <a:chExt cx="2538360" cy="457200"/>
          </a:xfrm>
        </p:grpSpPr>
        <p:sp>
          <p:nvSpPr>
            <p:cNvPr id="290" name=""/>
            <p:cNvSpPr/>
            <p:nvPr/>
          </p:nvSpPr>
          <p:spPr>
            <a:xfrm>
              <a:off x="1220760" y="210492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104920"/>
              <a:ext cx="20066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914400" y="210024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Prom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66076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Verbal, physical, or symbolic cues that initiate behaviors (e.g., posters, running shoes by be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0" y="3895560"/>
            <a:ext cx="3016080" cy="457200"/>
            <a:chOff x="0" y="3895560"/>
            <a:chExt cx="3016080" cy="457200"/>
          </a:xfrm>
        </p:grpSpPr>
        <p:sp>
          <p:nvSpPr>
            <p:cNvPr id="296" name=""/>
            <p:cNvSpPr/>
            <p:nvPr/>
          </p:nvSpPr>
          <p:spPr>
            <a:xfrm>
              <a:off x="1725480" y="389556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3895560"/>
              <a:ext cx="24843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914400" y="389088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n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45140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articipants enter into a contract with their exercise lea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77336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inforcemen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3273480"/>
            <a:ext cx="7148520" cy="457200"/>
            <a:chOff x="0" y="3273480"/>
            <a:chExt cx="7148520" cy="457200"/>
          </a:xfrm>
        </p:grpSpPr>
        <p:sp>
          <p:nvSpPr>
            <p:cNvPr id="303" name=""/>
            <p:cNvSpPr/>
            <p:nvPr/>
          </p:nvSpPr>
          <p:spPr>
            <a:xfrm>
              <a:off x="5830920" y="327348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3273480"/>
              <a:ext cx="661680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914400" y="3268800"/>
            <a:ext cx="74376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Rewards for Attendance and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82896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Rewards improve attendance but must be provided throughout the length of the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2193840"/>
            <a:ext cx="6602400" cy="457200"/>
            <a:chOff x="0" y="2193840"/>
            <a:chExt cx="6602400" cy="457200"/>
          </a:xfrm>
        </p:grpSpPr>
        <p:sp>
          <p:nvSpPr>
            <p:cNvPr id="309" name=""/>
            <p:cNvSpPr/>
            <p:nvPr/>
          </p:nvSpPr>
          <p:spPr>
            <a:xfrm>
              <a:off x="5284800" y="2193840"/>
              <a:ext cx="1317600" cy="457200"/>
            </a:xfrm>
            <a:custGeom>
              <a:avLst/>
              <a:gdLst>
                <a:gd name="textAreaLeft" fmla="*/ 0 w 1317600"/>
                <a:gd name="textAreaRight" fmla="*/ 1317960 w 1317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2193840"/>
              <a:ext cx="607068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14400" y="2189160"/>
            <a:ext cx="743760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harting attendance and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1773360" y="744480"/>
            <a:ext cx="56185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inforcemen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0" y="2190600"/>
            <a:ext cx="2711520" cy="457200"/>
            <a:chOff x="0" y="2190600"/>
            <a:chExt cx="2711520" cy="457200"/>
          </a:xfrm>
        </p:grpSpPr>
        <p:sp>
          <p:nvSpPr>
            <p:cNvPr id="317" name=""/>
            <p:cNvSpPr/>
            <p:nvPr/>
          </p:nvSpPr>
          <p:spPr>
            <a:xfrm>
              <a:off x="1420920" y="219060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2190600"/>
              <a:ext cx="217980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914400" y="218592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74644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roviding feedback to participants on their progress has positive motivational effe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4006800"/>
            <a:ext cx="3486240" cy="457200"/>
            <a:chOff x="0" y="4006800"/>
            <a:chExt cx="3486240" cy="457200"/>
          </a:xfrm>
        </p:grpSpPr>
        <p:sp>
          <p:nvSpPr>
            <p:cNvPr id="322" name=""/>
            <p:cNvSpPr/>
            <p:nvPr/>
          </p:nvSpPr>
          <p:spPr>
            <a:xfrm>
              <a:off x="2195640" y="4006800"/>
              <a:ext cx="1290600" cy="45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4006800"/>
              <a:ext cx="29541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914400" y="4002120"/>
            <a:ext cx="418608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elf-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562640"/>
            <a:ext cx="73137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articipants keep written records of their physical activ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165320" y="744480"/>
            <a:ext cx="68450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gnitive/Behavior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39960" y="342576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f-set rather than instructor-s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9960" y="413712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lexible rather than fixed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7000" y="271764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25a"/>
                </a:solidFill>
                <a:latin typeface="Arial"/>
              </a:rPr>
              <a:t>Exercise-related goals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9960" y="4848120"/>
            <a:ext cx="713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me based rather than distance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27000" y="1968480"/>
            <a:ext cx="765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oal setting should be used to motivate individu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165320" y="744480"/>
            <a:ext cx="68450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ognitive/Behavior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0760"/>
            <a:ext cx="731376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Dissociative strategies emphasize external distractions and produce significantly higher levels of exercise adherence than associative strategies focusing on internal body 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2104920"/>
            <a:ext cx="4389480" cy="457200"/>
            <a:chOff x="0" y="2104920"/>
            <a:chExt cx="4389480" cy="457200"/>
          </a:xfrm>
        </p:grpSpPr>
        <p:sp>
          <p:nvSpPr>
            <p:cNvPr id="339" name=""/>
            <p:cNvSpPr/>
            <p:nvPr/>
          </p:nvSpPr>
          <p:spPr>
            <a:xfrm>
              <a:off x="3043080" y="2104920"/>
              <a:ext cx="1346400" cy="45720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2104920"/>
              <a:ext cx="349884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914400" y="21002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gnitiv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585080" y="744480"/>
            <a:ext cx="60116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ecision-Making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816360"/>
            <a:ext cx="731376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ompleting a decision balance sheet to increase awareness of the costs and benefits of participating in an exercise program can enhance exercise adhere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3260880"/>
            <a:ext cx="4719600" cy="457200"/>
            <a:chOff x="0" y="3260880"/>
            <a:chExt cx="4719600" cy="457200"/>
          </a:xfrm>
        </p:grpSpPr>
        <p:sp>
          <p:nvSpPr>
            <p:cNvPr id="347" name=""/>
            <p:cNvSpPr/>
            <p:nvPr/>
          </p:nvSpPr>
          <p:spPr>
            <a:xfrm>
              <a:off x="3373560" y="3260880"/>
              <a:ext cx="1346040" cy="457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0" y="3260880"/>
              <a:ext cx="382896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914400" y="32558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Develop Balance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27000" y="1968480"/>
            <a:ext cx="7656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volve exercisers in decisions regarding program 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1000" y="2852640"/>
            <a:ext cx="6634080" cy="20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tter physica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wit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bb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re energ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189080" y="2235240"/>
            <a:ext cx="6734160" cy="2841480"/>
            <a:chOff x="1189080" y="2235240"/>
            <a:chExt cx="6734160" cy="2841480"/>
          </a:xfrm>
        </p:grpSpPr>
        <p:sp>
          <p:nvSpPr>
            <p:cNvPr id="356" name=""/>
            <p:cNvSpPr/>
            <p:nvPr/>
          </p:nvSpPr>
          <p:spPr>
            <a:xfrm>
              <a:off x="1189080" y="2235240"/>
              <a:ext cx="6734160" cy="51912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46440" y="27115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9080" y="2711520"/>
              <a:ext cx="7128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51600" y="27115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4524480" y="1677960"/>
              <a:ext cx="6336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GAINS TO SELF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LOSSES TO 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51000" y="3157560"/>
            <a:ext cx="6634080" cy="191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et healthier so I ca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with m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lay basebal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come more attrac-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ess time to devo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ive to my spous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189080" y="2235240"/>
            <a:ext cx="6734160" cy="3082680"/>
            <a:chOff x="1189080" y="2235240"/>
            <a:chExt cx="6734160" cy="3082680"/>
          </a:xfrm>
        </p:grpSpPr>
        <p:sp>
          <p:nvSpPr>
            <p:cNvPr id="368" name=""/>
            <p:cNvSpPr/>
            <p:nvPr/>
          </p:nvSpPr>
          <p:spPr>
            <a:xfrm>
              <a:off x="1189080" y="2235240"/>
              <a:ext cx="6734160" cy="8240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46440" y="29527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9080" y="2952720"/>
              <a:ext cx="7128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51600" y="2952720"/>
              <a:ext cx="71640" cy="231624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4524120" y="1918800"/>
              <a:ext cx="6372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251000" y="2263680"/>
            <a:ext cx="6640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GAINS TO 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LOSSES TO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MPORTANT OTHERS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MPORTANT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51000" y="2852640"/>
            <a:ext cx="6634080" cy="276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children woul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boss thinks i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ke to see me b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kes time awa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re activ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y spouse would li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 to lead healthi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189080" y="2222640"/>
            <a:ext cx="6734160" cy="3590640"/>
            <a:chOff x="1189080" y="2222640"/>
            <a:chExt cx="6734160" cy="3590640"/>
          </a:xfrm>
        </p:grpSpPr>
        <p:sp>
          <p:nvSpPr>
            <p:cNvPr id="380" name=""/>
            <p:cNvSpPr/>
            <p:nvPr/>
          </p:nvSpPr>
          <p:spPr>
            <a:xfrm>
              <a:off x="1189080" y="2222640"/>
              <a:ext cx="6734160" cy="533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46440" y="2484360"/>
              <a:ext cx="7164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89080" y="2484360"/>
              <a:ext cx="7128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1600" y="2484360"/>
              <a:ext cx="71640" cy="32799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4524480" y="2414520"/>
              <a:ext cx="6336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APPROVAL OF OTHERS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DISAPPROVAL OF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2073240"/>
            <a:ext cx="71625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pite the current societal emphasis on fitness, a small percentage of children and adults participate in regular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98600" y="727200"/>
            <a:ext cx="631332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Study Exercise Behavi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950480" y="744480"/>
            <a:ext cx="5295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 Decision Balance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189080" y="2235240"/>
            <a:ext cx="6734160" cy="2219040"/>
            <a:chOff x="1189080" y="2235240"/>
            <a:chExt cx="6734160" cy="2219040"/>
          </a:xfrm>
        </p:grpSpPr>
        <p:sp>
          <p:nvSpPr>
            <p:cNvPr id="391" name=""/>
            <p:cNvSpPr/>
            <p:nvPr/>
          </p:nvSpPr>
          <p:spPr>
            <a:xfrm>
              <a:off x="1189080" y="2235240"/>
              <a:ext cx="6734160" cy="51912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46440" y="2495520"/>
              <a:ext cx="7164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89080" y="2495520"/>
              <a:ext cx="7128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51600" y="2495520"/>
              <a:ext cx="71640" cy="190980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524120" y="1055160"/>
              <a:ext cx="63720" cy="6734160"/>
            </a:xfrm>
            <a:prstGeom prst="rect">
              <a:avLst/>
            </a:prstGeom>
            <a:solidFill>
              <a:srgbClr val="008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251000" y="2263680"/>
            <a:ext cx="6640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SELF-APPROVAL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SELF-DISAPPROV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251000" y="2852640"/>
            <a:ext cx="6634080" cy="1800360"/>
            <a:chOff x="1251000" y="2852640"/>
            <a:chExt cx="6634080" cy="1800360"/>
          </a:xfrm>
        </p:grpSpPr>
        <p:sp>
          <p:nvSpPr>
            <p:cNvPr id="399" name=""/>
            <p:cNvSpPr/>
            <p:nvPr/>
          </p:nvSpPr>
          <p:spPr>
            <a:xfrm>
              <a:off x="1251000" y="2852640"/>
              <a:ext cx="6634080" cy="180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3378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Feel more confident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 look foolish exer-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ising because I’m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out of sha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1000" y="3386160"/>
              <a:ext cx="6634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33782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Improved self-concep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727280" y="731880"/>
            <a:ext cx="56642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ocial-Support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104920"/>
            <a:ext cx="3449520" cy="457200"/>
            <a:chOff x="0" y="2104920"/>
            <a:chExt cx="3449520" cy="457200"/>
          </a:xfrm>
        </p:grpSpPr>
        <p:sp>
          <p:nvSpPr>
            <p:cNvPr id="405" name=""/>
            <p:cNvSpPr/>
            <p:nvPr/>
          </p:nvSpPr>
          <p:spPr>
            <a:xfrm>
              <a:off x="2103480" y="2104920"/>
              <a:ext cx="1346040" cy="457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104920"/>
              <a:ext cx="2558880" cy="457200"/>
            </a:xfrm>
            <a:prstGeom prst="rect">
              <a:avLst/>
            </a:prstGeom>
            <a:gradFill rotWithShape="0">
              <a:gsLst>
                <a:gs pos="0">
                  <a:srgbClr val="008a72"/>
                </a:gs>
                <a:gs pos="100000">
                  <a:srgbClr val="004a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14400" y="2100240"/>
            <a:ext cx="6539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Soci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1960" y="2641680"/>
            <a:ext cx="7988400" cy="13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3952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7477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8a72"/>
                </a:solidFill>
                <a:latin typeface="Wingdings 2"/>
                <a:ea typeface="Wingdings 2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An individual’s (e.g., spouse’s, family member’s, friend’s) favorable attitude toward another individual’s involvement in an exercise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1960" y="4003560"/>
            <a:ext cx="7988400" cy="13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3952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74772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8a72"/>
                </a:solidFill>
                <a:latin typeface="Wingdings 2"/>
                <a:ea typeface="Wingdings 2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ocial support can be enhanced by participation in a small group, the use of personalized feedback and the use of a buddy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2446920" y="1214280"/>
            <a:ext cx="43228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ntrinsic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25891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cus on the experien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33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ke a process ori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40878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gage in purposeful and meaningful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1880" y="174600"/>
            <a:ext cx="41864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fcfeb"/>
                </a:solidFill>
                <a:latin typeface="Arial Narrow"/>
              </a:rPr>
              <a:t>Category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090800" y="1214280"/>
            <a:ext cx="7053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ttings for Exercise Inter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258912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32878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ork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9862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46846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5383080"/>
            <a:ext cx="4303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lth care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200240" y="2443320"/>
            <a:ext cx="6643440" cy="166212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2577960"/>
            <a:ext cx="6553440" cy="128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ommunity-based approaches appear to offer the best way of reaching large numbers of peo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428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084680" y="728640"/>
            <a:ext cx="705384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ettings for Exercise Inter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1962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ch the intervention to the participant’s stag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29401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 cues for exercises (signs, posters, carto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40449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ke the exercises enjoy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7181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ailor the intensity, duration, and frequency of the exerc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mote exercising with a group or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6352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sign a contract or statement of intent to comply with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7400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fer a choice of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44132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vide rewards for attendance and particip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55180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ive individualized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nd a convenient place for exerci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26352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reward themselves for achieving certain go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37400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courage goals to be a self-set, flexible, and time based (rather than distance bas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48448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mind participants to focus on environmental cues (not bodily cues) when exerci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090520" y="219240"/>
            <a:ext cx="51109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lines for Improv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xercise Adh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19620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e small-group discu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261000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e participants complete a decision balance sheet before starting the exercis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6892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tain social support from the participant’s spouse, family members, and pe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476892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ggest keeping daily exercise lo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54165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lp participants choose purposeful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7463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adults are completely seden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3050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youth (ages 12-21)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do no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articipate in regular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28284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5% of children and adults report doing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hysical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2609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ly 15% of adults participate in vigorous and frequent ac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4880" y="219240"/>
            <a:ext cx="60343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Exercise Behavi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nd Adherence Are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23872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ly 10% of sedentary adults are likely to begin a program of regular exercise with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6094440"/>
            <a:ext cx="281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174636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mong boys and girls, physical activity declines steadily through adolesc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72412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hysical inactivity is more prevalent among women, African-Americans, and Hispanics, as well as among older and less affluent adul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133880"/>
            <a:ext cx="7313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50% of people starting an exercise program will drop out within six mon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1640"/>
            <a:ext cx="731376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ily attendance in physical education classes dropped from 42% to 25% between 1990 and 199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4880" y="219240"/>
            <a:ext cx="603432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y Exercise Behavi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nd Adherence Are Import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50880" y="73980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98756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igh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478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ed risk of cardiovascular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0840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tion in stress and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9686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62924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ilding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289480"/>
            <a:ext cx="7313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1749"/>
              </a:spcBef>
              <a:buClr>
                <a:srgbClr val="008a72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oci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58800" y="74448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0240" y="2443320"/>
            <a:ext cx="6643440" cy="19414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577960"/>
            <a:ext cx="6553440" cy="16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Exercise combined with proper eating habits can help people lose weight; but weight loss should be slow and steady, occurring as changes in exercise and eating patterns take pla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91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58800" y="744480"/>
            <a:ext cx="425448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Reasons to 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240" y="2443320"/>
            <a:ext cx="6643440" cy="2627280"/>
          </a:xfrm>
          <a:prstGeom prst="rect">
            <a:avLst/>
          </a:prstGeom>
          <a:gradFill rotWithShape="0">
            <a:gsLst>
              <a:gs pos="0">
                <a:srgbClr val="8bb0c8"/>
              </a:gs>
              <a:gs pos="100000">
                <a:srgbClr val="03538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577960"/>
            <a:ext cx="6553440" cy="228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Both the physiological and psychological benefits of exercise can be cited to help persuade sedentary people to initiate exerci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Maintenance” as well as initiation of physical activity is cri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9520" y="2149560"/>
            <a:ext cx="33480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35389"/>
                </a:solidFill>
                <a:latin typeface="Arial Black"/>
              </a:rPr>
              <a:t>KEY</a:t>
            </a:r>
            <a:r>
              <a:rPr b="1" i="1" lang="en-US" sz="3200" spc="-1" strike="noStrike">
                <a:solidFill>
                  <a:srgbClr val="035389"/>
                </a:solidFill>
                <a:latin typeface="Arial Black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53920" y="2150640"/>
            <a:ext cx="778320" cy="396000"/>
            <a:chOff x="853920" y="2150640"/>
            <a:chExt cx="778320" cy="396000"/>
          </a:xfrm>
        </p:grpSpPr>
        <p:sp>
          <p:nvSpPr>
            <p:cNvPr id="103" name=""/>
            <p:cNvSpPr/>
            <p:nvPr/>
          </p:nvSpPr>
          <p:spPr>
            <a:xfrm>
              <a:off x="85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5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2572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12392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98600" y="2150640"/>
              <a:ext cx="222120" cy="22212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396800" y="2311200"/>
              <a:ext cx="235440" cy="235440"/>
            </a:xfrm>
            <a:prstGeom prst="line">
              <a:avLst/>
            </a:prstGeom>
            <a:ln w="101520">
              <a:solidFill>
                <a:srgbClr val="f9c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14:21:27Z</dcterms:created>
  <dc:creator>The Staff</dc:creator>
  <dc:description/>
  <dc:language>en-US</dc:language>
  <cp:lastModifiedBy>wsu</cp:lastModifiedBy>
  <cp:lastPrinted>2003-02-04T16:19:56Z</cp:lastPrinted>
  <dcterms:modified xsi:type="dcterms:W3CDTF">2006-10-09T13:34:58Z</dcterms:modified>
  <cp:revision>77</cp:revision>
  <dc:subject/>
  <dc:title>PowerPoint Presentation</dc:title>
</cp:coreProperties>
</file>